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gif" ContentType="image/gif"/>
  <Override PartName="/ppt/media/image25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jpeg" ContentType="image/jpeg"/>
  <Override PartName="/ppt/media/image18.wmf" ContentType="image/x-wmf"/>
  <Override PartName="/ppt/media/image21.png" ContentType="image/png"/>
  <Override PartName="/ppt/media/image16.gif" ContentType="image/gif"/>
  <Override PartName="/ppt/media/image14.wmf" ContentType="image/x-wmf"/>
  <Override PartName="/ppt/media/image1.jpeg" ContentType="image/jpeg"/>
  <Override PartName="/ppt/media/image27.gif" ContentType="image/gif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242-08EA-481B-9EFA-0EBAA9F3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8D4-6C63-446C-9130-7EEE808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A5E-59C8-46AA-AFB0-AF9D0644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62D-0957-4ABD-9DB1-D62AA629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E3CD-9D0A-4390-9A3E-9411C00E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8EC1-0D15-4BA1-AA0C-8B30854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8523-270C-4488-B028-AD5F32E5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AF4-04B7-48E0-BB6D-410768C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2ADA-EE48-49CA-BF30-35BA7E45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A18C-B305-4076-9AD1-E3BDB64D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3DED-2041-4FFB-A087-72B9C3D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442-ECF3-4DF1-ADD3-B89DAE2D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C14E-2F94-4820-86CD-5E525E61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5AAF-1390-4516-B07D-D7E9EF3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AA31-5B04-4410-97E1-ED556EFF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13AB-D60B-4247-863E-B98058FA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4CB-1EB6-4D59-AAAB-E111493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D97-2061-4263-9B81-D7D138C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95E-1CAE-4582-811E-28B82E65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996-049D-4446-8C73-2B548FB6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C1A-2A48-49C4-8EBF-D7A8C72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E66-E225-4D8A-876F-9C655FF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BCB-8799-4E7B-8882-C992B0B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827-9360-4881-A41F-808C23A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60A6-818E-4B43-8ABE-5320509BB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982F-C9D4-4FA3-A7E0-A91478DCA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834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653080" y="2349360"/>
            <a:ext cx="3211560" cy="38880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395280" y="234936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851280" y="2492280"/>
            <a:ext cx="1255680" cy="1657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851280" y="4581360"/>
            <a:ext cx="12128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rous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26560" y="4220640"/>
            <a:ext cx="80614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us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readiness or activation a person experiences when faced with a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hletes need an optimal level of arousal to experience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ate level is ideal z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. Arousal levels and performance outc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y in ath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4537080" cy="252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48360" y="3624120"/>
            <a:ext cx="3600360" cy="254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588000" y="189000"/>
            <a:ext cx="23050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d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318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3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3 page 31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Arousal Regu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4360" y="4365720"/>
            <a:ext cx="8061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ousal Regu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chniq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muscle relaxation (PM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th control – Used to relax and re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feedback – Sensors detect raised tension or stress in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-inoculation training (SIT) – Building immunity to stress via 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mo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q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ed breathing rate – Increases state of awareness in C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 energ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talk and sounds: ‘Talk it Up!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sing imag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competition work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94600" y="4508640"/>
            <a:ext cx="1673280" cy="19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5 page 31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Mental Image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4360" y="4365720"/>
            <a:ext cx="8061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tal Image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86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Imagery, or visualisation, is used by athletes when they imagine themselves performing skill before actually do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t is a form of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experience which occurs in the mind via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trengthens neural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ages can be kinaesthetic, auditory and tac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rehearsal needs to be done in a relaxed state for 5-10 minutes at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imulation training is considered more effective than mental imagery in that it replicates the game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isuo-motor behaviour rehearsal (VMBR) – Requires a relaxed state to perform mental imagery and then conducting the skill under simulate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4 page 322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3213000"/>
            <a:ext cx="8126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Psychological Skills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26560" y="4220640"/>
            <a:ext cx="784404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32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3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Concent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4365720"/>
            <a:ext cx="8061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ing on relevant environmental c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ing attention focu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awareness of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. Concentration and attention are used interchangeably in sports psyc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described in terms of width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-inter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ocus on thoughts and fe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-exter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Focus outwards on an opponent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-inter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Mentally rehearse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-exter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Focus on very few external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28036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ion and Cho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020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s leading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tten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past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‘let things g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orientated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’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ing on negative aspects of their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c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cu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ing set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-lear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king can also cause concentration to fa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when pressure is buil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ot is riding on the next phase of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s attention to narrow and become 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mpair timing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e figure 13.7 p.3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04000" y="443700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877080" y="1773360"/>
            <a:ext cx="1940040" cy="24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8280360" cy="489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609840" cy="590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9640" y="15192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hoking Proc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Confidence Buil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280" y="4292640"/>
            <a:ext cx="80614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ce Buil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359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confidence is the belief individuals possess in becoming 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fident athle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ieve in themselves and their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ibit positive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ain calm und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towards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likely to take risks during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fig 13.8 p.32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ing success at training and during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more posi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positive ima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follow and understand game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22557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08720" cy="482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15192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idence Lev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-6 page 326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Psycholog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56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Psycholog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of people’s behaviour in the field of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in fields of sport 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sych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Social/personal interactions determine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phys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Physiological effect of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-behavioural Psych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How an individual’s thoughts affect their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940360" y="2924280"/>
            <a:ext cx="2857680" cy="367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740720" y="189000"/>
            <a:ext cx="1224000" cy="1211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740720" y="1916280"/>
            <a:ext cx="1079280" cy="83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review questions 1-6 page 329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chapter questions on page 109-118 of Nels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ummarised information of pages 116-121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Links – Chapter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15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12952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Institute of Sport – Performance psychology research: http://www.ais.org.au/psychology/research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thletic Insight – online journal of sport psychology: http://www.athleticinsight.c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Psychological Society (information about sport psychologists): http://www.psychology.org.au/psych/special_areas/2.4_9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sych web – Sport psychology: http://www.psywww.com/sports/index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 psychology resrouces (Psychwatch.com): http://www.psychwatch.com/sport_psychology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s science library (Gatorade Sports Science Institute): http://www.gssiweb.com/sportssciencecenter/topic.cfm?id=6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eak performance sports – mental resources: http://www.peaksports.com/tips_resources.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ticle – In the zone: Training your mind as well as your body (CNN): http://www.cnn.com/HEALTH/library/SM/00001.htm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Skills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es on cognitive behavioural aspects of sports psych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ical skills, like physical skills, can be learnt via training (P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can dramatically improve perform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programs are individua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; Goal setting, arousal, mental rehearsal, confidence and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ha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in sta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at techniques are currently used and being told about other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aught how to use the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Use of the technique in training and com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74772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a744"/>
                </a:solidFill>
                <a:latin typeface="Arial"/>
              </a:rPr>
              <a:t>Goal Set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4149720"/>
            <a:ext cx="78436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 setting is where athletes set down clear targets, priorities and expect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  setting has been shown to increase work out put up to 40-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s need to be set up for both training and com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ng term goals aim at the broader target, whereas short term goals provide more manageable focus poi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ee Fig 13.2 p.3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goal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come goal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Focus on end results, times, finishing places or med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ance goal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Focus on comparing present performance levels with those obtained previously. Independent to other competi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goal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Focus on physical movements and game strateg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Setting - SMAR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tional Coaching Association has set down the following ‘SMARTER’ way of setting goa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goals to focu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abl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be assessed against previous perform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ance by the all parties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tic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need to be within the athlete’s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Phas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date for completion needs to b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iting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d, inspired and reward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should be written down and k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setting improves performance b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ing attention on important elements of the skill/s being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ating and organising an athlete’s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ing athlete persev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ing the development of new learn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movements and set 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towards a positive psychologic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225440" cy="12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351640" cy="468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(Short and Long Ter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page 31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3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2120" cy="73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DE&amp;T User</cp:lastModifiedBy>
  <dcterms:modified xsi:type="dcterms:W3CDTF">2007-12-12T01:27:42Z</dcterms:modified>
  <cp:revision>131</cp:revision>
  <dc:subject/>
  <dc:title>Unit 4</dc:title>
</cp:coreProperties>
</file>